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F15E-B162-44C7-8CB3-11F1F083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189-A268-42C7-8F6C-3C4A85AC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83B-7A4B-4EA1-B7F3-3817B36B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7F9-A2F1-4098-B3F2-52E81125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CAAD-4022-4AAF-8E8E-A63059B2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0AAD-CB6E-4094-8470-0EB4E6DF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7713-65B2-4DD2-9933-140064A2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65EC-A5BC-4F41-AB95-D64DD152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8C2D-CA1B-423E-A80A-A1EF1021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2D7C-25F4-4644-8DB0-FDB87D59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8F59-30A8-4D27-B560-05640B51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F36-6F3D-4D71-A019-B8A3B817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0ABD-FE6F-45C5-8DBE-F4BEC43C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DDC7-4A27-4255-BA9A-BB4F7E65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EDCD-8CB2-47F4-ADCA-BF1022B7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1B16-EB0A-4BC0-8F28-B1E93561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E0E1-B8AB-4144-8E95-564A5ECD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291-EBA4-471D-B30A-7CA19699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8ED-E49F-4018-874C-E879155D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0EF-31D4-4C8F-B727-0D0E11AC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8D9-8072-49C3-B2D7-703C3859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503-EFF5-4C28-838D-32E5CE18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2C7-9952-40B7-9F3D-E3321E51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BC9-7D45-4B20-8829-197CDA9A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76FD-1A48-4CD9-B0CE-212FAE4E7009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0E15-9F28-499E-A9F5-DA5AAD12EE71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Connie Campbell</cp:lastModifiedBy>
  <dcterms:modified xsi:type="dcterms:W3CDTF">2002-05-31T21:55:06Z</dcterms:modified>
  <cp:revision>3</cp:revision>
  <dc:subject/>
  <dc:title>Twenty Questions </dc:title>
</cp:coreProperties>
</file>